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28E5A-CB7C-4CC3-B5E7-8F0BCCD94C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FC369-EC30-4278-A7F3-EF8BB14D33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4C69E-F8A4-475A-A97D-8B4927D960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224-D7F1-4F88-A7C3-EE2E03D0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888-8879-4872-81F8-CEFF5416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937-84A4-43EC-AA6B-34DDC98C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C52-67E9-4BC8-AAB3-7E1FC584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E7F-2574-4627-9687-BC78679A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329-DC3E-4D6A-9086-FA78BFB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FCD-5D36-4A77-B723-1913D6FF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975-601D-4C2E-82D6-65BF9567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610-14F1-4C1B-B176-4066A7D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AC2-5D49-4336-B44E-AA8B7C97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830-9B10-40E0-B68B-E294A78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DB2-D1D5-4FA9-A942-BD3A94A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C6C3C1-A778-4AEC-AF83-9EBFD123604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743112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79280" y="2781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CÓMO CIRCULA LA MA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EN UN ECO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1890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19280" y="1144440"/>
            <a:ext cx="7061040" cy="457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1600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ómo circula la materia en un eco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81080" y="2195640"/>
            <a:ext cx="176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oductores consumen materia inorgánica del medio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ransforman en materia orgán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859280" y="765000"/>
            <a:ext cx="40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teria fabricada por los productores va pasando por los niveles tróf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095640" y="5651640"/>
            <a:ext cx="57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stos de los seres vivos son aprovechados p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descomponedores, que transforman la materia orgánica de nuevo en inorgán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1619280" y="2879640"/>
            <a:ext cx="1079640" cy="179640"/>
          </a:xfrm>
          <a:prstGeom prst="rightArrow">
            <a:avLst>
              <a:gd name="adj1" fmla="val 50000"/>
              <a:gd name="adj2" fmla="val 150251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 rot="15960000">
            <a:off x="4833000" y="5200920"/>
            <a:ext cx="870120" cy="179280"/>
          </a:xfrm>
          <a:prstGeom prst="rightArrow">
            <a:avLst>
              <a:gd name="adj1" fmla="val 50000"/>
              <a:gd name="adj2" fmla="val 121335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 rot="5640000">
            <a:off x="5464800" y="1892880"/>
            <a:ext cx="1079640" cy="179280"/>
          </a:xfrm>
          <a:prstGeom prst="rightArrow">
            <a:avLst>
              <a:gd name="adj1" fmla="val 50000"/>
              <a:gd name="adj2" fmla="val 15055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 rot="2700000">
            <a:off x="6051240" y="1523880"/>
            <a:ext cx="509400" cy="179640"/>
          </a:xfrm>
          <a:prstGeom prst="rightArrow">
            <a:avLst>
              <a:gd name="adj1" fmla="val 50000"/>
              <a:gd name="adj2" fmla="val 70892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14 CuadroTexto"/>
          <p:cNvSpPr/>
          <p:nvPr/>
        </p:nvSpPr>
        <p:spPr>
          <a:xfrm>
            <a:off x="395280" y="1844640"/>
            <a:ext cx="36036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5 CuadroTexto"/>
          <p:cNvSpPr/>
          <p:nvPr/>
        </p:nvSpPr>
        <p:spPr>
          <a:xfrm>
            <a:off x="4500720" y="836640"/>
            <a:ext cx="35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16 CuadroTexto"/>
          <p:cNvSpPr/>
          <p:nvPr/>
        </p:nvSpPr>
        <p:spPr>
          <a:xfrm>
            <a:off x="2627280" y="5661000"/>
            <a:ext cx="360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34:24Z</dcterms:created>
  <dc:creator>Eva</dc:creator>
  <dc:description/>
  <dc:language>en-US</dc:language>
  <cp:lastModifiedBy>Anaya</cp:lastModifiedBy>
  <dcterms:modified xsi:type="dcterms:W3CDTF">2011-07-26T08:35:22Z</dcterms:modified>
  <cp:revision>15</cp:revision>
  <dc:subject/>
  <dc:title>Diapositiva 1</dc:title>
</cp:coreProperties>
</file>